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applause.wav" ContentType="audio/x-wav"/>
  <Override PartName="/ppt/media/image16.png" ContentType="image/png"/>
  <Override PartName="/ppt/media/drumroll.wav" ContentType="audio/x-wav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jpeg" ContentType="image/jpeg"/>
  <Override PartName="/ppt/media/image15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1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3029-6A05-4231-B716-90F8D7B3E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A665-9E41-409C-8153-DC80B7316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57B1-8737-4825-B0E2-263F775B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EC16-3058-4CFC-8B7B-F7CE30BE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C5C7-093D-4D23-A8FC-77D2EB82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5692-162F-4186-958F-240131BE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FE40-86F4-4ACC-A576-9F328582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ADF0-4412-4B58-B77F-F886B8FD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9ACA-EC57-4E08-B037-FBA1802C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5049-218E-4E8B-ABF6-9BD704EF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3319-B9DE-4057-9584-525CF02F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89E9-70C1-4790-9C84-BCA477A2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440B-1BC6-4973-AC06-0134F716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3693-1E3B-4BC7-9776-DE6FA1BC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51E9-7CB2-43B5-A0B4-63E14B3F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3CBA-4FA2-41E3-A2E2-E88F212E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1F34-291C-46D6-A9B6-F235F5FA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B37A-E7B9-49C6-9A35-EEBD612C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CC6D-6DFA-4EBA-9D7D-84F873C9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949E6-A78B-4DB6-9382-9D52415A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FCF5C-96CA-4DA3-B404-FFBEAA5A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8BA84-3C35-481E-BBDF-3B30EF45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0CBC8-FC0B-461A-A43C-91AAD75D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20E6D-0088-4688-B597-64C27BFC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1FE7-88AE-400E-ACFE-37F24E96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9199D-1DFF-47D3-8EBD-3CB2A31B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F8DE1-E1A4-4759-897C-CF5FFCD1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D6CA9-07BF-429C-B78E-562CFEFE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FBAE4-C797-4A27-8A09-3C914100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7E6B9-A8BA-48BD-8518-2355452F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BB953-D9D8-4D0A-A026-33B32021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898B9-711D-4FDE-B865-C1803D9C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7AB4C-550D-4F9C-9703-800E7C1B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3DB9F-0AEE-45A6-AEF2-7E0A4109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CA3AE-B63B-4B52-B7C5-92C55168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ACA2-1CC7-4439-BB47-AB02EB49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B949F-867F-4C4B-ACEF-25998209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3C6EA-2019-4DDE-A145-30B6CDB4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55B1F-386C-4100-9BA8-DEA63B17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55B55-4752-46B5-BD23-F34E5CE2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B8B01-7B12-40FA-8659-F6FF98A3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92C97-1BE5-49A8-A6C7-9FD536C2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20378-59A4-4853-AFE4-65262631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18FCE-D955-4A47-AEC2-F349B18C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AB8A8-D91C-4A87-82DF-2B57E1D4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EE56-DD70-495B-AD95-F8E1138A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989A-4C31-4016-BF28-8B58BC83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4A7F-3841-4CC5-8AE1-9B37AA95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2491-F64C-4663-9862-776929D9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C4D5-7B35-42B1-9830-E762CAB3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E914-90C1-4FFD-BD9B-DFB5D0D8203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494E-7FFA-4165-AE5F-35C59A3699A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D90C-5804-4542-8281-AF635F93553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9BE1-B865-475E-B394-63F56664B1B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Comic Sans MS"/>
              </a:rPr>
              <a:t>RUSSIA</a:t>
            </a:r>
            <a:r>
              <a:rPr b="0" lang="en-US" sz="5600" spc="-1" strike="noStrike">
                <a:solidFill>
                  <a:srgbClr val="04617b"/>
                </a:solidFill>
                <a:latin typeface="Calibri"/>
              </a:rPr>
              <a:t>’</a:t>
            </a:r>
            <a:r>
              <a:rPr b="0" lang="en-US" sz="5600" spc="-1" strike="noStrike">
                <a:solidFill>
                  <a:srgbClr val="04617b"/>
                </a:solidFill>
                <a:latin typeface="Comic Sans MS"/>
              </a:rPr>
              <a:t>S  ECONOMY</a:t>
            </a: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By Allessandra Toscanini, Darren Chau, and Skerdilaid Hoti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5000">
    <p:wheel/>
    <p:sndAc>
      <p:stSnd>
        <p:snd r:embed="rId1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603360" y="1725480"/>
            <a:ext cx="7864200" cy="27003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09480" y="480060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10000">
    <p:wheel/>
    <p:sndAc>
      <p:stSnd>
        <p:snd r:embed="rId2" name="applause.wav"/>
      </p:stSnd>
    </p:sndAc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ussia’s statistic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ea - 17,098,242 sq k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ulation- 139,390,20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verage age- 38.5 years ol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employment rate- 8.4 and growi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ulation below poverty line- 15.8%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Content Placeholder 4" descr="rs-map.gif"/>
          <p:cNvPicPr/>
          <p:nvPr/>
        </p:nvPicPr>
        <p:blipFill>
          <a:blip r:embed="rId1"/>
          <a:stretch/>
        </p:blipFill>
        <p:spPr>
          <a:xfrm>
            <a:off x="4191120" y="2438280"/>
            <a:ext cx="4647960" cy="3276720"/>
          </a:xfrm>
          <a:prstGeom prst="rect">
            <a:avLst/>
          </a:prstGeom>
          <a:ln w="0">
            <a:noFill/>
          </a:ln>
        </p:spPr>
      </p:pic>
    </p:spTree>
  </p:cSld>
  <p:transition advTm="10000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P4240116"/>
          <p:cNvPicPr/>
          <p:nvPr/>
        </p:nvPicPr>
        <p:blipFill>
          <a:blip r:embed="rId1"/>
          <a:stretch/>
        </p:blipFill>
        <p:spPr>
          <a:xfrm>
            <a:off x="3962520" y="4419720"/>
            <a:ext cx="3200400" cy="1981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5867280" y="1981080"/>
            <a:ext cx="297180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1607potatoes"/>
          <p:cNvPicPr/>
          <p:nvPr/>
        </p:nvPicPr>
        <p:blipFill>
          <a:blip r:embed="rId3"/>
          <a:stretch/>
        </p:blipFill>
        <p:spPr>
          <a:xfrm>
            <a:off x="2590920" y="1981080"/>
            <a:ext cx="3047760" cy="2067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Foods produced in Russ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5146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tato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gar bee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rle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a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10000">
    <p:wheel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stockphotopro_36014208UKD_no_title"/>
          <p:cNvPicPr/>
          <p:nvPr/>
        </p:nvPicPr>
        <p:blipFill>
          <a:blip r:embed="rId1"/>
          <a:stretch/>
        </p:blipFill>
        <p:spPr>
          <a:xfrm>
            <a:off x="5334120" y="2057400"/>
            <a:ext cx="3429000" cy="40543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Manufacturing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5257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. Petersburg is a shipbuilding cen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manufacturing centers are in western Russ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tories focus on heavy industr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factories switched to light industr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tories in St. Petersburg make light machinery, textiles, and scientific and medical equipm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10000">
    <p:wheel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467480" cy="87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ussia’s resourc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uxite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ld, Co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pp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sh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ron, Le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ural g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ick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trole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n, Zin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04960" y="1904760"/>
            <a:ext cx="5111640" cy="4343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old is one of Russia top sourc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3" descr="C:\Users\cool\AppData\Local\Microsoft\Windows\Temporary Internet Files\Content.IE5\2IUTAM3Y\MP900289272[1].jpg"/>
          <p:cNvPicPr/>
          <p:nvPr/>
        </p:nvPicPr>
        <p:blipFill>
          <a:blip r:embed="rId1"/>
          <a:stretch/>
        </p:blipFill>
        <p:spPr>
          <a:xfrm>
            <a:off x="4208400" y="2209680"/>
            <a:ext cx="3411720" cy="2667240"/>
          </a:xfrm>
          <a:prstGeom prst="rect">
            <a:avLst/>
          </a:prstGeom>
          <a:ln w="0">
            <a:noFill/>
          </a:ln>
        </p:spPr>
      </p:pic>
    </p:spTree>
  </p:cSld>
  <p:transition advTm="10000">
    <p:wheel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3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ussia’s industr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495680" cy="46908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ustrial production growth  rate 13.1%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als are used to make advanced air crafts, ships , missi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ensive technology include radars, and advanced electronics components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dical and scientific industry include textiles, handicrafts, foodstuff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ad and rail transportation include communication equipment, tractors and construction equipment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ill Russia economy has been going dow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C:\Users\cool\AppData\Local\Microsoft\Windows\Temporary Internet Files\Content.IE5\2IUTAM3Y\MP900390146[1].jpg"/>
          <p:cNvPicPr/>
          <p:nvPr/>
        </p:nvPicPr>
        <p:blipFill>
          <a:blip r:embed="rId1"/>
          <a:stretch/>
        </p:blipFill>
        <p:spPr>
          <a:xfrm>
            <a:off x="5334120" y="1828800"/>
            <a:ext cx="2895480" cy="3657600"/>
          </a:xfrm>
          <a:prstGeom prst="rect">
            <a:avLst/>
          </a:prstGeom>
          <a:ln w="0">
            <a:noFill/>
          </a:ln>
        </p:spPr>
      </p:pic>
    </p:spTree>
  </p:cSld>
  <p:transition advTm="10000">
    <p:wheel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3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3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3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The  Volga and Urals Reg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828440"/>
            <a:ext cx="40384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olg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rries almost one-half of Russia’s river traffi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t  provides water for irrigation and for hydroelectric pow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home of Russia’s most productive farmland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8320" y="182844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ral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iners mine bauxite for aluminum, copper, gold, lead and nick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ny energy resources such as coal, oil, and natural g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10000">
    <p:wheel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3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3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3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3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3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3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3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3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Moscow reg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cow  is Russia’s economic cen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rgest transportation hu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tories are focused on heavy industri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ulation  10,470,318 peop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574800" y="1447560"/>
            <a:ext cx="5111640" cy="46782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3" descr="C:\Users\cool\AppData\Local\Microsoft\Windows\Temporary Internet Files\Content.IE5\04V09QGG\MC900101208[1].wmf"/>
          <p:cNvPicPr/>
          <p:nvPr/>
        </p:nvPicPr>
        <p:blipFill>
          <a:blip r:embed="rId1"/>
          <a:stretch/>
        </p:blipFill>
        <p:spPr>
          <a:xfrm>
            <a:off x="3962520" y="2286000"/>
            <a:ext cx="4671720" cy="2813040"/>
          </a:xfrm>
          <a:prstGeom prst="rect">
            <a:avLst/>
          </a:prstGeom>
          <a:ln w="0">
            <a:noFill/>
          </a:ln>
        </p:spPr>
      </p:pic>
    </p:spTree>
  </p:cSld>
  <p:transition advTm="10000">
    <p:wheel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3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3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3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ussia's port c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ssia has 5 important ports c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liningrad, and St. Petersburg. Murmansk, Vladivostok, and Astrakha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water is frozen are the ports so transportation is har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liningrad has eliminated all taxes on shipping goo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. Petersburg makes light machinery, textiles, scientific, and medical equipmen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the other port cities trade bring goods to Russi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12" descr="news-StPetersburgAnnounced"/>
          <p:cNvPicPr/>
          <p:nvPr/>
        </p:nvPicPr>
        <p:blipFill>
          <a:blip r:embed="rId1"/>
          <a:stretch/>
        </p:blipFill>
        <p:spPr>
          <a:xfrm>
            <a:off x="4648320" y="1905120"/>
            <a:ext cx="4114800" cy="4495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C:\Users\cool\AppData\Local\Microsoft\Windows\Temporary Internet Files\Content.IE5\T29BWV2O\MM900283225[1].gif"/>
          <p:cNvPicPr/>
          <p:nvPr/>
        </p:nvPicPr>
        <p:blipFill>
          <a:blip r:embed="rId2"/>
          <a:stretch/>
        </p:blipFill>
        <p:spPr>
          <a:xfrm>
            <a:off x="2971800" y="5486400"/>
            <a:ext cx="1295280" cy="1143000"/>
          </a:xfrm>
          <a:prstGeom prst="rect">
            <a:avLst/>
          </a:prstGeom>
          <a:ln w="0">
            <a:noFill/>
          </a:ln>
        </p:spPr>
      </p:pic>
    </p:spTree>
  </p:cSld>
  <p:transition advTm="10000">
    <p:wheel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3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3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3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3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3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3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9:15:47Z</dcterms:created>
  <dc:creator>cool</dc:creator>
  <dc:description/>
  <dc:language>en-US</dc:language>
  <cp:lastModifiedBy>cool</cp:lastModifiedBy>
  <dcterms:modified xsi:type="dcterms:W3CDTF">2010-12-21T02:00:01Z</dcterms:modified>
  <cp:revision>46</cp:revision>
  <dc:subject/>
  <dc:title>Economy</dc:title>
</cp:coreProperties>
</file>